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855-002B-4825-B0C4-42808145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AA2-8807-4614-BA25-725787B9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BC7-2353-475C-9C3C-DD126439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BEA-C798-46B4-8BF8-C2B3ADAB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53CE-CF27-4D30-B9E6-EF61B694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8F36-C3FF-4C69-862A-CC20D8CF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FB36-3707-4E99-8E3D-23564CFC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A310-C5C1-41FD-929B-D7AD518F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D01C-41A0-49AA-A704-26007AC4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89A4-E1B6-421A-AC5D-ED9DC08E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9720-8C66-4D9D-A6BC-A39A6641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879-B703-478A-A1A5-8928AC02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F220-F87D-401F-AFCB-F6B4FA7F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E4C9-0EBE-4FB9-9DBD-C37D37FA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7AFD-BAE6-4CC4-8B29-76EDBB8C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8557-4F45-414D-A7BF-77A4D47E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EE06-A3F5-4AFA-ACE3-D5A888E1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F84-74B8-4C07-A502-E3D8E8F9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1CA-3118-4376-B76B-5B39C5F2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F97-A565-46C1-86CA-8AE0A9B1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E98-4CE2-4494-9F1F-4E2C99E1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1C8-8771-4714-8707-76D9E4B3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D71-5C7E-48B1-B4A6-069F5629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ABF-05BB-4EF0-BB65-C7D500DD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EBEB-9C94-4FEE-9EA0-1ABE859582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2A67-E5FD-4031-B388-A3EA62CA56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68360" y="404640"/>
            <a:ext cx="5478480" cy="11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washshaha  VI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o vale nada que tenga bue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intencion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si bay ojos tan gach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 disim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o que ha de hacerse du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n todo ca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bien celaré mi angust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ólo me de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i amor un alma mu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triste, apag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¿Viste al que el miedo sobrecog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o al ave en sus temo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35280" y="620640"/>
            <a:ext cx="302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0"/>
            <a:ext cx="4413600" cy="10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 pecho hi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uando el deseo arrecia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¿Por qué estas an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o acaban y no ces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¡Ay del coper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así mi muerte anhel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Vino prepar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el corazón dentro se esconde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e dispara arp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 gloria goza con 'Ali Ab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mi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onde cumpl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halla el honor real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 mis dese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an alas sus bon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is esperan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se logran gracias a señ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que son de luz. fulg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69720" y="762120"/>
            <a:ext cx="3466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 su belle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 alba mayor brill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 da su gen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jor perfume al vi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 una estr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ue guía al peregrin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eón que espa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a mala suerte, que a sus  v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lena de miedo cor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39220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20920" y="105084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94000" y="1050840"/>
            <a:ext cx="5740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e  adorna el 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an pronto lo contemp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onor no exis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tanto resplandez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nta, embrujada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h gloria- con sus prend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EN YA SAHHARA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ALBA Q’ESTA KON BEL FOG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KAND BENE BID AM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VEN OH HECHIC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UN ALBA QUE TIENE TAN HERMOSO FULG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CUANDO VIENE PIDE AM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2:17:25Z</dcterms:created>
  <dc:creator> </dc:creator>
  <dc:description/>
  <dc:language>en-US</dc:language>
  <cp:lastModifiedBy> </cp:lastModifiedBy>
  <dcterms:modified xsi:type="dcterms:W3CDTF">2007-09-29T02:43:49Z</dcterms:modified>
  <cp:revision>5</cp:revision>
  <dc:subject/>
  <dc:title>Diapositiva 1</dc:title>
</cp:coreProperties>
</file>